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0095-EB31-4F68-89BD-BA1FD717D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ECAC-A72D-4FAF-BF73-8E7F5104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D042-B78B-41EA-BF6B-404C97FFE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082C-1944-448B-9279-0A6B0A052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2611-5B8C-4B71-8A8D-C1D03AC6E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5780-76C8-420D-B2ED-5828579E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984F-B94D-4FFD-827B-EAF5196B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DFF8-A442-4021-A297-C442B5AD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0E33-A610-4EE9-9556-61358058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CEDE-CF76-4668-9894-65DFC991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C52D-7CED-475F-A21D-1A172B07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8AB0-7F07-4845-8338-B3C37E98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F039-86CB-4B78-BE62-E05FB811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B10E-86D1-4374-8CBD-2A582749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917B-5081-4030-943C-3239DF9E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2F9D-1857-44A1-A5BC-82E93D744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3922-5EE2-4B01-97B4-CE63B93A6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FA1F-E808-46F8-82E1-50D8AD97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4A0E-D209-4772-8A3C-7D4E7553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86D3-0E10-4933-8A67-ADA4C82D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0EBC-9532-4835-B93C-302303B5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1D23-376E-43E0-BD77-8AC8C431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FFD6-0FA4-4165-96ED-6389F777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3105-59F2-4E28-9A7E-A603E8EE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62A3-941E-49DB-8C69-BD3B3BED9D8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F690-A0A5-44E3-ADF0-43831997D1E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484360" y="260280"/>
            <a:ext cx="44863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ărinţii atomului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916280"/>
            <a:ext cx="874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Gândirea lumii vechi îşi găseşte cea mai luminoasă expresie în concepţiile filosofice ale Greciei antice. Încununarea gândirii materialiste o constituie teoria atomistă. Cuvântul </a:t>
            </a:r>
            <a:r>
              <a:rPr b="1" i="1" lang="ro-RO" sz="2000" spc="-1" strike="noStrike">
                <a:solidFill>
                  <a:srgbClr val="ffffff"/>
                </a:solidFill>
                <a:latin typeface="Arial"/>
              </a:rPr>
              <a:t>atom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a fost folosit pentru prima dată acum 2500 de ani. Atomii, aşa cum îi cunoaştem astăzi se aseamănă foarte puţin cu particulele concepute de filosofii din Abde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611280" y="4005360"/>
            <a:ext cx="2305080" cy="863640"/>
          </a:xfrm>
          <a:custGeom>
            <a:avLst/>
            <a:gdLst>
              <a:gd name="textAreaLeft" fmla="*/ 55800 w 2305080"/>
              <a:gd name="textAreaRight" fmla="*/ 2249280 w 230508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57636" h="21600">
                <a:moveTo>
                  <a:pt x="0" y="0"/>
                </a:moveTo>
                <a:lnTo>
                  <a:pt x="57636" y="0"/>
                </a:lnTo>
                <a:lnTo>
                  <a:pt x="57636" y="21600"/>
                </a:lnTo>
                <a:lnTo>
                  <a:pt x="0" y="21600"/>
                </a:lnTo>
                <a:close/>
              </a:path>
              <a:path fill="lightenLess" w="57636" h="21600">
                <a:moveTo>
                  <a:pt x="0" y="0"/>
                </a:moveTo>
                <a:lnTo>
                  <a:pt x="57636" y="0"/>
                </a:lnTo>
                <a:lnTo>
                  <a:pt x="56236" y="1400"/>
                </a:lnTo>
                <a:lnTo>
                  <a:pt x="1400" y="1400"/>
                </a:lnTo>
                <a:close/>
              </a:path>
              <a:path fill="darken" w="57636" h="21600">
                <a:moveTo>
                  <a:pt x="57636" y="0"/>
                </a:moveTo>
                <a:lnTo>
                  <a:pt x="57636" y="21600"/>
                </a:lnTo>
                <a:lnTo>
                  <a:pt x="56236" y="20200"/>
                </a:lnTo>
                <a:lnTo>
                  <a:pt x="56236" y="1400"/>
                </a:lnTo>
                <a:close/>
              </a:path>
              <a:path fill="darkenLess" w="57636" h="21600">
                <a:moveTo>
                  <a:pt x="57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36" y="20200"/>
                </a:lnTo>
                <a:close/>
              </a:path>
              <a:path fill="lighten" w="57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3419640" y="4005360"/>
            <a:ext cx="2304720" cy="863640"/>
          </a:xfrm>
          <a:custGeom>
            <a:avLst/>
            <a:gdLst>
              <a:gd name="textAreaLeft" fmla="*/ 55800 w 2304720"/>
              <a:gd name="textAreaRight" fmla="*/ 2248920 w 2304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57627" h="21600">
                <a:moveTo>
                  <a:pt x="0" y="0"/>
                </a:moveTo>
                <a:lnTo>
                  <a:pt x="57627" y="0"/>
                </a:lnTo>
                <a:lnTo>
                  <a:pt x="57627" y="21600"/>
                </a:lnTo>
                <a:lnTo>
                  <a:pt x="0" y="21600"/>
                </a:lnTo>
                <a:close/>
              </a:path>
              <a:path fill="lightenLess" w="57627" h="21600">
                <a:moveTo>
                  <a:pt x="0" y="0"/>
                </a:moveTo>
                <a:lnTo>
                  <a:pt x="57627" y="0"/>
                </a:lnTo>
                <a:lnTo>
                  <a:pt x="56227" y="1400"/>
                </a:lnTo>
                <a:lnTo>
                  <a:pt x="1400" y="1400"/>
                </a:lnTo>
                <a:close/>
              </a:path>
              <a:path fill="darken" w="57627" h="21600">
                <a:moveTo>
                  <a:pt x="57627" y="0"/>
                </a:moveTo>
                <a:lnTo>
                  <a:pt x="57627" y="21600"/>
                </a:lnTo>
                <a:lnTo>
                  <a:pt x="56227" y="20200"/>
                </a:lnTo>
                <a:lnTo>
                  <a:pt x="56227" y="1400"/>
                </a:lnTo>
                <a:close/>
              </a:path>
              <a:path fill="darkenLess" w="57627" h="21600">
                <a:moveTo>
                  <a:pt x="57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27" y="20200"/>
                </a:lnTo>
                <a:close/>
              </a:path>
              <a:path fill="lighten" w="57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>
            <a:hlinkClick r:id="rId3" action="ppaction://hlinksldjump"/>
          </p:cNvPr>
          <p:cNvSpPr/>
          <p:nvPr/>
        </p:nvSpPr>
        <p:spPr>
          <a:xfrm>
            <a:off x="3419640" y="5589720"/>
            <a:ext cx="2304720" cy="863640"/>
          </a:xfrm>
          <a:custGeom>
            <a:avLst/>
            <a:gdLst>
              <a:gd name="textAreaLeft" fmla="*/ 55800 w 2304720"/>
              <a:gd name="textAreaRight" fmla="*/ 2248920 w 2304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57627" h="21600">
                <a:moveTo>
                  <a:pt x="0" y="0"/>
                </a:moveTo>
                <a:lnTo>
                  <a:pt x="57627" y="0"/>
                </a:lnTo>
                <a:lnTo>
                  <a:pt x="57627" y="21600"/>
                </a:lnTo>
                <a:lnTo>
                  <a:pt x="0" y="21600"/>
                </a:lnTo>
                <a:close/>
              </a:path>
              <a:path fill="lightenLess" w="57627" h="21600">
                <a:moveTo>
                  <a:pt x="0" y="0"/>
                </a:moveTo>
                <a:lnTo>
                  <a:pt x="57627" y="0"/>
                </a:lnTo>
                <a:lnTo>
                  <a:pt x="56227" y="1400"/>
                </a:lnTo>
                <a:lnTo>
                  <a:pt x="1400" y="1400"/>
                </a:lnTo>
                <a:close/>
              </a:path>
              <a:path fill="darken" w="57627" h="21600">
                <a:moveTo>
                  <a:pt x="57627" y="0"/>
                </a:moveTo>
                <a:lnTo>
                  <a:pt x="57627" y="21600"/>
                </a:lnTo>
                <a:lnTo>
                  <a:pt x="56227" y="20200"/>
                </a:lnTo>
                <a:lnTo>
                  <a:pt x="56227" y="1400"/>
                </a:lnTo>
                <a:close/>
              </a:path>
              <a:path fill="darkenLess" w="57627" h="21600">
                <a:moveTo>
                  <a:pt x="57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27" y="20200"/>
                </a:lnTo>
                <a:close/>
              </a:path>
              <a:path fill="lighten" w="57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rId4" action="ppaction://hlinksldjump"/>
          </p:cNvPr>
          <p:cNvSpPr/>
          <p:nvPr/>
        </p:nvSpPr>
        <p:spPr>
          <a:xfrm>
            <a:off x="468360" y="5589720"/>
            <a:ext cx="2519280" cy="863640"/>
          </a:xfrm>
          <a:custGeom>
            <a:avLst/>
            <a:gdLst>
              <a:gd name="textAreaLeft" fmla="*/ 55800 w 2519280"/>
              <a:gd name="textAreaRight" fmla="*/ 2463480 w 251928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62991" h="21600">
                <a:moveTo>
                  <a:pt x="0" y="0"/>
                </a:moveTo>
                <a:lnTo>
                  <a:pt x="62991" y="0"/>
                </a:lnTo>
                <a:lnTo>
                  <a:pt x="62991" y="21600"/>
                </a:lnTo>
                <a:lnTo>
                  <a:pt x="0" y="21600"/>
                </a:lnTo>
                <a:close/>
              </a:path>
              <a:path fill="lightenLess" w="62991" h="21600">
                <a:moveTo>
                  <a:pt x="0" y="0"/>
                </a:moveTo>
                <a:lnTo>
                  <a:pt x="62991" y="0"/>
                </a:lnTo>
                <a:lnTo>
                  <a:pt x="61591" y="1400"/>
                </a:lnTo>
                <a:lnTo>
                  <a:pt x="1400" y="1400"/>
                </a:lnTo>
                <a:close/>
              </a:path>
              <a:path fill="darken" w="62991" h="21600">
                <a:moveTo>
                  <a:pt x="62991" y="0"/>
                </a:moveTo>
                <a:lnTo>
                  <a:pt x="62991" y="21600"/>
                </a:lnTo>
                <a:lnTo>
                  <a:pt x="61591" y="20200"/>
                </a:lnTo>
                <a:lnTo>
                  <a:pt x="61591" y="1400"/>
                </a:lnTo>
                <a:close/>
              </a:path>
              <a:path fill="darkenLess" w="62991" h="21600">
                <a:moveTo>
                  <a:pt x="62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591" y="20200"/>
                </a:lnTo>
                <a:close/>
              </a:path>
              <a:path fill="lighten" w="62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>
            <a:hlinkClick r:id="rId5" action="ppaction://hlinksldjump"/>
          </p:cNvPr>
          <p:cNvSpPr/>
          <p:nvPr/>
        </p:nvSpPr>
        <p:spPr>
          <a:xfrm>
            <a:off x="6300720" y="5589720"/>
            <a:ext cx="2519280" cy="863640"/>
          </a:xfrm>
          <a:custGeom>
            <a:avLst/>
            <a:gdLst>
              <a:gd name="textAreaLeft" fmla="*/ 55800 w 2519280"/>
              <a:gd name="textAreaRight" fmla="*/ 2463480 w 251928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62991" h="21600">
                <a:moveTo>
                  <a:pt x="0" y="0"/>
                </a:moveTo>
                <a:lnTo>
                  <a:pt x="62991" y="0"/>
                </a:lnTo>
                <a:lnTo>
                  <a:pt x="62991" y="21600"/>
                </a:lnTo>
                <a:lnTo>
                  <a:pt x="0" y="21600"/>
                </a:lnTo>
                <a:close/>
              </a:path>
              <a:path fill="lightenLess" w="62991" h="21600">
                <a:moveTo>
                  <a:pt x="0" y="0"/>
                </a:moveTo>
                <a:lnTo>
                  <a:pt x="62991" y="0"/>
                </a:lnTo>
                <a:lnTo>
                  <a:pt x="61591" y="1400"/>
                </a:lnTo>
                <a:lnTo>
                  <a:pt x="1400" y="1400"/>
                </a:lnTo>
                <a:close/>
              </a:path>
              <a:path fill="darken" w="62991" h="21600">
                <a:moveTo>
                  <a:pt x="62991" y="0"/>
                </a:moveTo>
                <a:lnTo>
                  <a:pt x="62991" y="21600"/>
                </a:lnTo>
                <a:lnTo>
                  <a:pt x="61591" y="20200"/>
                </a:lnTo>
                <a:lnTo>
                  <a:pt x="61591" y="1400"/>
                </a:lnTo>
                <a:close/>
              </a:path>
              <a:path fill="darkenLess" w="62991" h="21600">
                <a:moveTo>
                  <a:pt x="62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591" y="20200"/>
                </a:lnTo>
                <a:close/>
              </a:path>
              <a:path fill="lighten" w="62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rId6" action="ppaction://hlinksldjump"/>
          </p:cNvPr>
          <p:cNvSpPr/>
          <p:nvPr/>
        </p:nvSpPr>
        <p:spPr>
          <a:xfrm>
            <a:off x="6300720" y="4005360"/>
            <a:ext cx="2592360" cy="863640"/>
          </a:xfrm>
          <a:custGeom>
            <a:avLst/>
            <a:gdLst>
              <a:gd name="textAreaLeft" fmla="*/ 55800 w 2592360"/>
              <a:gd name="textAreaRight" fmla="*/ 2536560 w 25923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64818" h="21600">
                <a:moveTo>
                  <a:pt x="0" y="0"/>
                </a:moveTo>
                <a:lnTo>
                  <a:pt x="64818" y="0"/>
                </a:lnTo>
                <a:lnTo>
                  <a:pt x="64818" y="21600"/>
                </a:lnTo>
                <a:lnTo>
                  <a:pt x="0" y="21600"/>
                </a:lnTo>
                <a:close/>
              </a:path>
              <a:path fill="lightenLess" w="64818" h="21600">
                <a:moveTo>
                  <a:pt x="0" y="0"/>
                </a:moveTo>
                <a:lnTo>
                  <a:pt x="64818" y="0"/>
                </a:lnTo>
                <a:lnTo>
                  <a:pt x="63418" y="1400"/>
                </a:lnTo>
                <a:lnTo>
                  <a:pt x="1400" y="1400"/>
                </a:lnTo>
                <a:close/>
              </a:path>
              <a:path fill="darken" w="64818" h="21600">
                <a:moveTo>
                  <a:pt x="64818" y="0"/>
                </a:moveTo>
                <a:lnTo>
                  <a:pt x="64818" y="21600"/>
                </a:lnTo>
                <a:lnTo>
                  <a:pt x="63418" y="20200"/>
                </a:lnTo>
                <a:lnTo>
                  <a:pt x="63418" y="1400"/>
                </a:lnTo>
                <a:close/>
              </a:path>
              <a:path fill="darkenLess" w="64818" h="21600">
                <a:moveTo>
                  <a:pt x="64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18" y="20200"/>
                </a:lnTo>
                <a:close/>
              </a:path>
              <a:path fill="lighten" w="64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422100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Leucip si Democr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>
            <a:hlinkClick r:id="rId7" action="ppaction://hlinksldjump"/>
          </p:cNvPr>
          <p:cNvSpPr/>
          <p:nvPr/>
        </p:nvSpPr>
        <p:spPr>
          <a:xfrm>
            <a:off x="3851280" y="4221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J. Dal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2100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Joseph John Thom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5805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r Ernest Rutherf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5805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Niels Boh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43640" y="5805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Erwin Schrodin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177336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Filosofii greci</a:t>
            </a:r>
            <a:r>
              <a:rPr b="1" lang="ro-RO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i="1" lang="ro-RO" sz="1800" spc="-1" strike="noStrike" u="sng">
                <a:solidFill>
                  <a:srgbClr val="ffffff"/>
                </a:solidFill>
                <a:uFillTx/>
                <a:latin typeface="Arial"/>
              </a:rPr>
              <a:t>Leucip</a:t>
            </a: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 şi </a:t>
            </a:r>
            <a:r>
              <a:rPr b="1" i="1" lang="ro-RO" sz="1800" spc="-1" strike="noStrike" u="sng">
                <a:solidFill>
                  <a:srgbClr val="ffffff"/>
                </a:solidFill>
                <a:uFillTx/>
                <a:latin typeface="Arial"/>
              </a:rPr>
              <a:t>Democrit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au afirmat, că universul este alcătuit din particule invizibile, indivizibile - atomi - separate prin vid; diversitatea corpurilor şi fenomenelor din natură se explică prin aceea că atomii au forme şi mărimi diferite şi au proprietatea de a intra în combinaţii diverse. Prima teorie atomică a lui Democrit nu s-a putut impune din lipsa dovezilor experimentale; cu toate acestea a influenţat şi inspirat savanţii de-a lungul timpulu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195640" y="476280"/>
            <a:ext cx="51814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ucip şi Democrit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156360" y="4432320"/>
            <a:ext cx="1616040" cy="24256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817640" cy="2492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 flipH="1">
            <a:off x="1979640" y="4869000"/>
            <a:ext cx="100800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643280" y="5157720"/>
            <a:ext cx="144144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843280" y="4365720"/>
            <a:ext cx="1514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ucip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76720" y="6134040"/>
            <a:ext cx="12859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emocrit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8459640" y="6021360"/>
            <a:ext cx="684360" cy="83664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836640"/>
              <a:gd name="textAreaBottom" fmla="*/ 792360 h 836640"/>
            </a:gdLst>
            <a:ahLst/>
            <a:rect l="textAreaLeft" t="textAreaTop" r="textAreaRight" b="textAreaBottom"/>
            <a:pathLst>
              <a:path w="21600" h="26404">
                <a:moveTo>
                  <a:pt x="0" y="0"/>
                </a:moveTo>
                <a:lnTo>
                  <a:pt x="21600" y="0"/>
                </a:lnTo>
                <a:lnTo>
                  <a:pt x="21600" y="26404"/>
                </a:lnTo>
                <a:lnTo>
                  <a:pt x="0" y="26404"/>
                </a:lnTo>
                <a:close/>
              </a:path>
              <a:path fill="lightenLess" w="21600" h="264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4">
                <a:moveTo>
                  <a:pt x="21600" y="0"/>
                </a:moveTo>
                <a:lnTo>
                  <a:pt x="21600" y="26404"/>
                </a:lnTo>
                <a:lnTo>
                  <a:pt x="20200" y="25004"/>
                </a:lnTo>
                <a:lnTo>
                  <a:pt x="20200" y="1400"/>
                </a:lnTo>
                <a:close/>
              </a:path>
              <a:path fill="darkenLess" w="21600" h="26404">
                <a:moveTo>
                  <a:pt x="21600" y="26404"/>
                </a:moveTo>
                <a:lnTo>
                  <a:pt x="0" y="26404"/>
                </a:lnTo>
                <a:lnTo>
                  <a:pt x="1400" y="25004"/>
                </a:lnTo>
                <a:lnTo>
                  <a:pt x="20200" y="25004"/>
                </a:lnTo>
                <a:close/>
              </a:path>
              <a:path fill="lighten" w="21600" h="26404">
                <a:moveTo>
                  <a:pt x="0" y="264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4"/>
                </a:lnTo>
                <a:close/>
              </a:path>
              <a:path fill="darken" w="21600" h="26404">
                <a:moveTo>
                  <a:pt x="3794" y="13202"/>
                </a:moveTo>
                <a:lnTo>
                  <a:pt x="17806" y="6195"/>
                </a:lnTo>
                <a:lnTo>
                  <a:pt x="17806" y="20208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47640" y="1844640"/>
            <a:ext cx="64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843280" y="189000"/>
            <a:ext cx="2990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ohn Dalton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1557360"/>
            <a:ext cx="7777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Chimistul şi fizicianul englez </a:t>
            </a:r>
            <a:r>
              <a:rPr b="1" i="1" lang="ro-RO" sz="1800" spc="-1" strike="noStrike" u="sng">
                <a:solidFill>
                  <a:srgbClr val="ffffff"/>
                </a:solidFill>
                <a:uFillTx/>
                <a:latin typeface="Arial"/>
              </a:rPr>
              <a:t>John Dalton</a:t>
            </a: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(1805) a formulat ipoteza că toate substanţele sunt formate din particule mici de materie numite atomi, după cuvântul </a:t>
            </a: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atomos,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din limba greacă (indivizibil). John Dalton (1766 – 1844) consideră că un element chimic este alcătuit, dintr-o mulţime de atom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Fiecare atom, fiind indivizibil, se poate uni numai cu un număr întreg de alţi atomi formând substanţe diferi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J. Dalton este considerat părintele teoriei atomis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Confirmarea experimentală a teoriei atomiste ridică chimia pe o treaptă superioară. Începutul secolului al XlX-lea marchează trecerea la valorificarea datelor experimentale pentru formularea de generalizări teoreti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xperimentele efectuate de-a lungul secolelor al XlX-lea şi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al XX-lea au dus treptat la concluzia că atomii, particule foarte mici şi stabile au o structură complex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10800"/>
                </a:moveTo>
                <a:lnTo>
                  <a:pt x="18624" y="3794"/>
                </a:lnTo>
                <a:lnTo>
                  <a:pt x="18624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763640" y="260280"/>
            <a:ext cx="61531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oseph John Thomson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324000" y="1773360"/>
            <a:ext cx="86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Sir </a:t>
            </a: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Joseph John Thomson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(1856 - 1940) - fizician englez, a propus un  </a:t>
            </a: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model static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al atomului; el a presupus că atomul trebuie să fie forma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dint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fer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u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formă, de electricitate pozitivă, în care se găsesc electroni astfel încâ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 atomul s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ie neutru din punct de vedere electr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Modelul nu explică distribuirea sarcinilor pozitive fără să se r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ing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ă ş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 nu p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oate răspunde la o serie de constatări experimenta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3794" y="10895"/>
                </a:moveTo>
                <a:lnTo>
                  <a:pt x="17806" y="3889"/>
                </a:lnTo>
                <a:lnTo>
                  <a:pt x="17806" y="17901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268360" y="3933720"/>
            <a:ext cx="3600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98100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Fizicianul englez,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ir</a:t>
            </a:r>
            <a:r>
              <a:rPr b="1" lang="ro-RO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Ernest Rutherfor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1871 - 1937 ) a stabilit existenţa nucleului atomic şi a </a:t>
            </a: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pus baz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e unui model dinamic al atomului, modelul planetar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(1911); atomul este format din un </a:t>
            </a: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nucleu central,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care conţine sarcina pozitivă a atomului şi aproximativ întreaga sa masă şi o „atmosferă înconjurătoare“ formată din un număr necesar de </a:t>
            </a: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electroni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astfel încât atomul să fie neutru; pentru ca electronii să se menţină la o anumită distanţă de nucleu, ei trebuie să se mişte cu o viteză foarte mare, astfel încât forţa centrifugă să echilibreze forţa de atracţie electrostatică a nucleulu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Acest model duce la concluzia că atomul nu este stabil: electronul, în mişcare va emite continuu o radiaţie electromagnetică, energia sa va scădea treptat ducând la „căderea" lui pe nucle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xperimental s-a demonstrat că atomul este stabil şi nu emite radiaţii în stare fundamental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835280" y="260280"/>
            <a:ext cx="5362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r Ernest Rutherford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" w="21600" h="21854">
                <a:moveTo>
                  <a:pt x="3794" y="10927"/>
                </a:moveTo>
                <a:lnTo>
                  <a:pt x="17806" y="3920"/>
                </a:lnTo>
                <a:lnTo>
                  <a:pt x="17806" y="17933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268360" y="4599000"/>
            <a:ext cx="253872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95280" y="90792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Fizicianul danez </a:t>
            </a:r>
            <a:r>
              <a:rPr b="1" lang="ro-RO" sz="1800" spc="-1" strike="noStrike" u="sng">
                <a:solidFill>
                  <a:srgbClr val="ffffff"/>
                </a:solidFill>
                <a:uFillTx/>
                <a:latin typeface="Arial"/>
              </a:rPr>
              <a:t>Niels Boh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885 -1962) a dezvoltat ideile lui Rutherford şi a conceput primul model atomic care a putut explica destul de bine multe proprietăţi ale atomului de hidrogen; el a comparat atomul cu un sistem solar: nucleul ţine locul Soarelui, iar electronii - locul planetelor, care se rotesc pe orbitele l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Nucleul atomului lui Bohr este înconjurat de electroni care se deplasează numai pe anumite orbite mai apropiate sau mai depărtate de nucleu, fără să emită radiaţi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Ulterior, teoria lui Bohr s-a dovedit insuficientă pentru explicarea uno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fapte experimentale şi a problemelor cantitative dintre e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132000" y="189000"/>
            <a:ext cx="2733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iels Bohr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8244000" y="5877000"/>
            <a:ext cx="900000" cy="98100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81000"/>
              <a:gd name="textAreaBottom" fmla="*/ 922680 h 981000"/>
            </a:gdLst>
            <a:ahLst/>
            <a:rect l="textAreaLeft" t="textAreaTop" r="textAreaRight" b="textAreaBottom"/>
            <a:pathLst>
              <a:path w="21600" h="23543">
                <a:moveTo>
                  <a:pt x="0" y="0"/>
                </a:moveTo>
                <a:lnTo>
                  <a:pt x="21600" y="0"/>
                </a:lnTo>
                <a:lnTo>
                  <a:pt x="21600" y="23543"/>
                </a:lnTo>
                <a:lnTo>
                  <a:pt x="0" y="23543"/>
                </a:lnTo>
                <a:close/>
              </a:path>
              <a:path fill="lightenLess" w="21600" h="235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43">
                <a:moveTo>
                  <a:pt x="21600" y="0"/>
                </a:moveTo>
                <a:lnTo>
                  <a:pt x="21600" y="23543"/>
                </a:lnTo>
                <a:lnTo>
                  <a:pt x="20200" y="22143"/>
                </a:lnTo>
                <a:lnTo>
                  <a:pt x="20200" y="1400"/>
                </a:lnTo>
                <a:close/>
              </a:path>
              <a:path fill="darkenLess" w="21600" h="23543">
                <a:moveTo>
                  <a:pt x="21600" y="23543"/>
                </a:moveTo>
                <a:lnTo>
                  <a:pt x="0" y="23543"/>
                </a:lnTo>
                <a:lnTo>
                  <a:pt x="1400" y="22143"/>
                </a:lnTo>
                <a:lnTo>
                  <a:pt x="20200" y="22143"/>
                </a:lnTo>
                <a:close/>
              </a:path>
              <a:path fill="lighten" w="21600" h="23543">
                <a:moveTo>
                  <a:pt x="0" y="235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43"/>
                </a:lnTo>
                <a:close/>
              </a:path>
              <a:path fill="darken" w="21600" h="23543">
                <a:moveTo>
                  <a:pt x="3794" y="11772"/>
                </a:moveTo>
                <a:lnTo>
                  <a:pt x="17806" y="4765"/>
                </a:lnTo>
                <a:lnTo>
                  <a:pt x="17806" y="18778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195640" y="3683160"/>
            <a:ext cx="403524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95280" y="105264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 u="sng">
                <a:solidFill>
                  <a:srgbClr val="ffffff"/>
                </a:solidFill>
                <a:uFillTx/>
                <a:latin typeface="Arial"/>
              </a:rPr>
              <a:t>Erwin Schrodin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1887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- 1961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fizician austriac a dezvoltat modelul lui Bohr, considerând că electronul nu se deplasează pe anumite orbite distincte, ci el este distribuit sub forma unui nor în jurul nucleului; distribuţia unui electron sub formă de nor a fost denumită orbital atom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Notarea orbitalilor cu literele s, p, d, f arată unele caracteristici din spectroscopie: 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sharp = precis, fix, exact; p-principal; d-difuz; f-f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Deci, atomul trebuie imaginat ca având un nucleu încărcat pozitiv înconjurat de un nor electronic, cu sarcină negativă, difuz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124000" y="189000"/>
            <a:ext cx="491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rwin Schrodinger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124000" y="3457440"/>
            <a:ext cx="4322880" cy="34005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8388360" y="6237360"/>
            <a:ext cx="755640" cy="620640"/>
          </a:xfrm>
          <a:custGeom>
            <a:avLst/>
            <a:gdLst>
              <a:gd name="textAreaLeft" fmla="*/ 39960 w 755640"/>
              <a:gd name="textAreaRight" fmla="*/ 715680 w 755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6141" y="3794"/>
                </a:moveTo>
                <a:lnTo>
                  <a:pt x="20154" y="10800"/>
                </a:lnTo>
                <a:lnTo>
                  <a:pt x="6141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79280" y="16286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rsă bibliografică "Chimie - manual clasa a IX-a, Editura Didactică şi Pedagogică, R.A. Bucureşti, 2006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>
            <a:hlinkClick r:id="" action="ppaction://hlinkshowjump?jump=endshow"/>
          </p:cNvPr>
          <p:cNvSpPr/>
          <p:nvPr/>
        </p:nvSpPr>
        <p:spPr>
          <a:xfrm>
            <a:off x="8101080" y="6093000"/>
            <a:ext cx="1042920" cy="76500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18221" y="10800"/>
                </a:moveTo>
                <a:lnTo>
                  <a:pt x="7715" y="17806"/>
                </a:lnTo>
                <a:lnTo>
                  <a:pt x="7715" y="3794"/>
                </a:lnTo>
                <a:close/>
              </a:path>
              <a:path fill="darken" w="29443" h="21600">
                <a:moveTo>
                  <a:pt x="20066" y="3794"/>
                </a:moveTo>
                <a:lnTo>
                  <a:pt x="20066" y="17806"/>
                </a:lnTo>
                <a:lnTo>
                  <a:pt x="21728" y="17806"/>
                </a:lnTo>
                <a:lnTo>
                  <a:pt x="21728" y="3794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8:17:10Z</dcterms:created>
  <dc:creator>Surugiu</dc:creator>
  <dc:description/>
  <dc:language>en-US</dc:language>
  <cp:lastModifiedBy>Scoala Mihai Viteazu</cp:lastModifiedBy>
  <dcterms:modified xsi:type="dcterms:W3CDTF">2009-10-27T13:21:18Z</dcterms:modified>
  <cp:revision>11</cp:revision>
  <dc:subject/>
  <dc:title>Diapozitivul 1</dc:title>
</cp:coreProperties>
</file>